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wmf" ContentType="image/x-wmf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CA2-6BBD-4C9E-92BA-8BF1F0DC2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BEC-EA58-43A1-A56B-CB52D869D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5BB-D64E-4F37-BC56-994C6569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D46-CE03-4A6F-B786-1EB06F8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89F-DAF2-4EE8-A39D-E78B11D7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355-1094-4082-B9B5-5CADA0FE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161F-3255-4CEA-93F4-7855D67E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1331-A8AD-41F9-8BA7-6B684F0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4B91-9167-41B9-91EA-BDC1BD9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C8A-0FA3-4085-A5A1-51A45F30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E275-8D13-4DE4-BA58-7932F13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0DB7-4B9B-4823-AE67-FE00CF2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6628-5783-4562-A402-CD95975C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EB6-8125-46D2-B173-5CFCAB9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DB15-8979-493F-AF11-5857D26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7AA0-ED0C-4A95-B28B-FE4D991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10FD-E1EF-456E-96B9-02366C68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108-4911-4D0D-96A9-11592436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4E6B-5786-4DF2-AF14-CA5C418F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111-C708-4754-9AF9-FE3AD2CC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D09-092A-42C3-A7D8-DB5AF801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830-B912-474E-89BA-F86C3D6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812-D1C3-47F6-AC07-420E3C3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602-6078-4023-B653-096DD63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3C9-3C50-4707-ABAD-0338C53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826-997E-4BA2-9F9F-12E9CEF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4FDF-14AA-44C3-9DF3-552B69A8242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AB61-FF2A-40F0-B6DC-129CC9ACBDD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530280" y="1292400"/>
            <a:ext cx="8113680" cy="2047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17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Arely and Bland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MS900388425[1].wav" descr=""/>
          <p:cNvPicPr/>
          <p:nvPr/>
        </p:nvPicPr>
        <p:blipFill>
          <a:blip r:embed="rId2"/>
          <a:stretch/>
        </p:blipFill>
        <p:spPr>
          <a:xfrm>
            <a:off x="822960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1920960"/>
            <a:ext cx="44956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have been studied  very littl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ungi is found on the west coast on south Shetland Island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plant is very uniqu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s plant is found in temperate area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ungi grows up to 1 foot tall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looks like gray frozen flowe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Content Placeholder 4" descr="fungi%20pic1.jpg"/>
          <p:cNvPicPr/>
          <p:nvPr/>
        </p:nvPicPr>
        <p:blipFill>
          <a:blip r:embed="rId2"/>
          <a:stretch/>
        </p:blipFill>
        <p:spPr>
          <a:xfrm>
            <a:off x="4648320" y="2300400"/>
            <a:ext cx="4038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5943600" cy="4708440"/>
          </a:xfrm>
          <a:prstGeom prst="rect">
            <a:avLst/>
          </a:prstGeom>
          <a:ln w="0">
            <a:noFill/>
          </a:ln>
        </p:spPr>
      </p:pic>
      <p:pic>
        <p:nvPicPr>
          <p:cNvPr id="129" name="MS900069459[1].wav" descr=""/>
          <p:cNvPicPr/>
          <p:nvPr/>
        </p:nvPicPr>
        <p:blipFill>
          <a:blip r:embed="rId3"/>
          <a:stretch/>
        </p:blipFill>
        <p:spPr>
          <a:xfrm>
            <a:off x="80773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3352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ue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elie Pengui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ddell Se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c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ga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od we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97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ue whales travel there to get fis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have ballee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don’t chew there foo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 mamma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blue, gray, and min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ue whales eat krill and fis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ue whales make deep sound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carnivores .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4" descr="blue-whale-pictures_3.jpg"/>
          <p:cNvPicPr/>
          <p:nvPr/>
        </p:nvPicPr>
        <p:blipFill>
          <a:blip r:embed="rId2"/>
          <a:stretch/>
        </p:blipFill>
        <p:spPr>
          <a:xfrm>
            <a:off x="4572000" y="1371600"/>
            <a:ext cx="419112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MS910219980[1].wav" descr=""/>
          <p:cNvPicPr/>
          <p:nvPr/>
        </p:nvPicPr>
        <p:blipFill>
          <a:blip r:embed="rId3"/>
          <a:stretch/>
        </p:blipFill>
        <p:spPr>
          <a:xfrm>
            <a:off x="2362320" y="6094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17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530280" y="2984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peculia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enguins weigh 5 kilograms to 11 pound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ir average height is 70 centimeters to 27 inch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ch nest is 2 inches away from other nest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eat fis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carniv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071228-penguins-extinct_big.jpg"/>
          <p:cNvPicPr/>
          <p:nvPr/>
        </p:nvPicPr>
        <p:blipFill>
          <a:blip r:embed="rId2"/>
          <a:stretch/>
        </p:blipFill>
        <p:spPr>
          <a:xfrm>
            <a:off x="4419720" y="1447920"/>
            <a:ext cx="4390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-360" y="18288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enchanting anima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live in the edge of the ic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weddle pups are weaned at around 7 week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dults weigh 880 pound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aby seals grow to 3 and 5 fee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mamma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eat fis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carniv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4" descr="weddell-seal.jpg"/>
          <p:cNvPicPr/>
          <p:nvPr/>
        </p:nvPicPr>
        <p:blipFill>
          <a:blip r:embed="rId2"/>
          <a:stretch/>
        </p:blipFill>
        <p:spPr>
          <a:xfrm>
            <a:off x="4648320" y="3048120"/>
            <a:ext cx="412416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MS900388467[1].wav" descr=""/>
          <p:cNvPicPr/>
          <p:nvPr/>
        </p:nvPicPr>
        <p:blipFill>
          <a:blip r:embed="rId3"/>
          <a:stretch/>
        </p:blipFill>
        <p:spPr>
          <a:xfrm>
            <a:off x="7467480" y="685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42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interesting plant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osses live where there is shelter and plenty of wate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found in gravily soil area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photosynthesis can start in a few hou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looks like a white path of sand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95680" y="1599840"/>
            <a:ext cx="4191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4" descr="images.jpg"/>
          <p:cNvPicPr/>
          <p:nvPr/>
        </p:nvPicPr>
        <p:blipFill>
          <a:blip r:embed="rId2"/>
          <a:stretch/>
        </p:blipFill>
        <p:spPr>
          <a:xfrm>
            <a:off x="4518000" y="2971800"/>
            <a:ext cx="3894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378000" y="450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rare plants you can only find in Antarctic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are best adapted to survive in harsh polar climat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live for about 4,500 year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chens only grow about 120 days per yea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chens not only frugal and robust pla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re are more than 350 speci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4" descr="Lichen.jpg"/>
          <p:cNvPicPr/>
          <p:nvPr/>
        </p:nvPicPr>
        <p:blipFill>
          <a:blip r:embed="rId2"/>
          <a:stretch/>
        </p:blipFill>
        <p:spPr>
          <a:xfrm>
            <a:off x="4510080" y="3041640"/>
            <a:ext cx="38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re  are  more than 300 speci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mostly found in bird coloni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 are only living things in barren landscap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is sometimes found under old ston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look like dirt but it is no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simple plant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ictu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4" descr="algae-blooms-antarctica-global-warming.jpg"/>
          <p:cNvPicPr/>
          <p:nvPr/>
        </p:nvPicPr>
        <p:blipFill>
          <a:blip r:embed="rId2"/>
          <a:stretch/>
        </p:blipFill>
        <p:spPr>
          <a:xfrm>
            <a:off x="4495680" y="33526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298440" y="8352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360" y="1934640"/>
            <a:ext cx="48769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s  are  carniv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 whales are massive mamma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s have blowholes that help them breath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s are black and whi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ca whales  are not fish because they don’t have gill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 eat fish, baby seal and mor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are warm blooded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http://suziesden.com/wp-content/uploads/2010/09/orca-whale.jpg"/>
          <p:cNvPicPr/>
          <p:nvPr/>
        </p:nvPicPr>
        <p:blipFill>
          <a:blip r:embed="rId2"/>
          <a:stretch/>
        </p:blipFill>
        <p:spPr>
          <a:xfrm>
            <a:off x="4648320" y="2209680"/>
            <a:ext cx="431784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MS910219980[1].wav" descr=""/>
          <p:cNvPicPr/>
          <p:nvPr/>
        </p:nvPicPr>
        <p:blipFill>
          <a:blip r:embed="rId3"/>
          <a:stretch/>
        </p:blipFill>
        <p:spPr>
          <a:xfrm>
            <a:off x="807732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317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4T21:26:41Z</dcterms:modified>
  <cp:revision>26</cp:revision>
  <dc:subject/>
  <dc:title>Title</dc:title>
</cp:coreProperties>
</file>